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media/image2.jpeg" ContentType="image/jpeg"/>
  <Override PartName="/ppt/media/type.wav" ContentType="audio/x-wav"/>
  <Override PartName="/ppt/media/laser.wav" ContentType="audio/x-wav"/>
  <Override PartName="/ppt/media/image4.jpeg" ContentType="image/jpeg"/>
  <Override PartName="/ppt/media/image3.jpeg" ContentType="image/jpeg"/>
  <Override PartName="/ppt/media/whoosh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E09-AB91-4A87-9C37-916A3582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C0C-A2FC-4A16-94C6-40348C2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EF4-37EA-4A02-A897-07A28A9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8AA-802F-4164-BA79-239C9F01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D43-56F7-4927-BB1E-1D257997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631-F18F-4042-9A85-8236AF91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BA4-EA46-4AEF-BCB5-C9E426E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B20-10FD-467A-B186-7AF1BCB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4CF-5672-4362-9E66-48A7E9E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6E6-B03B-42ED-9708-350C6C79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71D-D150-44EF-85AA-536ABAFE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1B6-E6CF-41D9-8E02-3FB1E219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021B_sub%20cop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91C-96C5-4EB6-9B1D-181C524238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7640" y="279360"/>
            <a:ext cx="35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</a:rPr>
              <a:t>도전 골든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BOOK!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438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66"/>
                </a:solidFill>
                <a:latin typeface="Times New Roman"/>
              </a:rPr>
              <a:t>독서퀴즈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조가 궐내에 설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역대 국왕의 어필과 고문서를 보관하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조선시대 국립 도서관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국가의 현실문제를 학문적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해결해야 한다고 판단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국가적으로 도서를 수집 보존하고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운 이 국립 도서관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찍이 아시아의 황금시기에 빛나던 등촉의 하나인 코리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 등불 다시 한번 켜지는 날에 너는 동발의 밝은 빛이 되리라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 나라를 소재로 한 이 시는 인도가 낳은 세계적 시인이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철학자인 이 사람의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동양 최초로 노벨문학상을 수상했던 이 사람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근대 추리소설의 창시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애드가 알랜 포의 대표작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장하는 동물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은 이 동물에게서 계속 불길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느낌을 받고 결국 자신의 아내까지 살해하게 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동물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영국의 여류 소설가로 내면 묘사를 통한 의식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흐름과 시적인 문체가 특징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댈러웨이 부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항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작품을 남긴 이 사람은 박인환의 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목마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숙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도 등장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여류 소설가는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미국의 단편 소설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O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헨리는 감옥에서 나와 보니 이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명해져 있더라는 말을 남겼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‘깨어보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루 아침에 유명해져 있었다” 라고 말한 영국의 낭만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시인으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돈주안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단테의 예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쓴 사람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은 소설가 헤밍웨이의 탄생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년이 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날이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는 이 작품으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 플리처상과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노벨문학상을 수상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덤벼드는 상어떼와 치열한 고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벌이며 대어를 낚으려는 늙은 어부의 불굴의 정신을 그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2" name="las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요즘 어린이들이 처음 글자를 배울 때  ㄱ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ㄷ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배우는 것처럼 조선시대 어린이들은 학업을 시작할 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천자문부터 익혔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‘천자문’을 한자로 써 주세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2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간의 음악 여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은 무엇에 관한 설명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로크 시대에 탄생한 음악 장르이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뜻은 ‘작품’이라는 뜻에서 유래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러 개의 장면들로 구성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~5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 막으로 되어 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552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u"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중에서 금관 악기가 아닌 것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트럼펫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호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트럼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튜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2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음악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함부르크에서 태어났지만 주로 비인에서 활동한 음악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는 많은 여성과 사귀었지만 결혼은 한번도 하지 않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 평생 총각으로 지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2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 비인 여성 합창단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프라노 가수와 사랑에 빠졌으며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는 콘트랄토 가수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에는 역시 가수 알리스 바르비와 사랑에 빠졌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러나 무엇보다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 연상으로 스승의 미망인 클라라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신적 사랑은 음악사에 남길만한 로맨스로 기억되고 있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영화로 개봉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건축무한육면각체의 비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이 시인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필명으로 발표한 첫 시집의 제목이기도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본명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김해경이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38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의 나이로 요절할 때까지 난해한 소설과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시를 발표했던 이 시인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7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글을 잘 읽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O.X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 답하세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금까지 가장 많이 사용되는 결혼식 음악은 신부 입장 때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연주되는 ‘결혼 행진곡’으로 이 음악은 원래 바그너의 오페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엔그린’ 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막에 나오는 ‘혼례의 합창’을 피아노 독주곡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로 편곡한 것이며 시간 관계상 앞부분만 연주하는 것이 관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비교적 느린 템포의 이 곡은 웨딩드레스를 입은 신부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발 맞추어 연주하기에 적당한 곡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고 결혼식이 끝나고 신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신부의 퇴장 시에 연주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축혼 행진곡’이 있는데 이 음악 역시 바그너의 관현악곡을 피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노로 편곡한 곡으로 지금까지 제일 많이 연주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2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설명에 해당되는 곡명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곡은 우리 국악의 대표적인 관현악곡으로 국악 연주자라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으레 외워두어 언제 어디서 어느 부분을 연주하라고 해도 거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없이 연주할 수 있어야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래는 조선 세조 때 궁중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잡귀를 내 쫓는 행사를 할 때 쓰이던 불교의식과 관련된 성악곡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는데 오늘날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 모음곡으로 된 기악곡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9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모음곡은 상영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중영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령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락덜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삼현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염불도드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타령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군악이라고 악기 편성에 따라 여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지 형태로 변주될 수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ru"/>
    <p:sndAc>
      <p:stSnd>
        <p:snd r:embed="rId2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프랑스 작가 앙드레 지드가 쓴 소설로 사촌 누이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루어질 수 없는 사랑을 그린 것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이 가고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매우 힘든 길을 상징하는 것으로 소설의 제목이기도 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독일의 문인 괴테가 쓴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젊은 베르테르의 슬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주인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베르테르가 약혼자가 있는 여인을 사랑하여 고민한 나머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권총으로 자살한다는 내용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이 발표되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혼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늘고 자살이 유행하는 등 사회에 대단한 영향력을 미쳤다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 베르테르가 열렬히 사랑했던 여인의 이름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 근대문학 초기에는 많은 고전소설들이 새로 쓰여 졌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대표적인 예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별주부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‘토끼의 간’이라는 뜻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토의 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라는 제목으로 다시 탄생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‘감옥 속에 핀 꽃’이라는 뜻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옥중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어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전소설을 다시 쓴 것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삼국유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에 의하면 이 부부는 바위를 타고 일본으로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건너가 왕이 되었다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들이 떠난 후 신라에선 해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달이 빛을 잃었다고 하는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해와 달의 정기를 상징하는 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부부의 이름은 무엇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현대 과학의 쟁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세기 물릭학의 양대 흐름 중의 하나로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슈뢰딩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W.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이젠베르크로는 설명할 수 없는 원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분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립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素粒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미시적 대상에 적용되는 역학으로서 현재 가장 타당성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닌 이론 체계로 간주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이론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용어는 월리엄 깁슨의 공상과학소설에서 유래한 것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컴퓨터를 매개로 이루어지는 커뮤니케이션을 통해서 만들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고 유지되는 공간을 의미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는 우리가 익순한 물리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공간이 아니라 관념 속에 존재하는 장소이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회적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만들어지는 공간으로 현재는 인터넷이 가장 대표적인 형태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용어는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horz"/>
    <p:sndAc>
      <p:stSnd>
        <p:snd r:embed="rId2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애매한 표현을 컴퓨터에 입력할 수 있도록 구체화하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계량화 시켜 주는 수학적 기법으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데이터베이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전문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공학 경영학 등 응용분야가 넓으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특히 애매한 요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가 많이 내포하고 있는 사회과학 연구 분야에서의 컴퓨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활용도 향상에 큰 공헌을 하였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이론은 무엇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2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말은 유전자 재조합 기술을 이용하여 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충에 저항성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강한 유전자 및 수량을 증가시키는 유전자 등 유용한 특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전자를 생명체에서 찾아내어 이를 인공적으로 분리하거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결합 시켜 의도한 특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초제 저항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병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충성 등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갖도록 개발한 생물체로 이들을 재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육하여 식품으로 이용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것을 일컫는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근 이것의 안전성을 둘러싸고 국가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역 마찰까지 빚을 가능성이 있으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나라의 경우 미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 수입하는 콩과 옥수수의 상당량이 이것이라 추정되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은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스탈린주의를 비판한 최초의 문학 작품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모든 동물이 평등한 이상 사회를 건설하기까지의 과정을 담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영국의 작가 조지 오웰의 우화형식의 작품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의 제목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과학철학은 다양하고 복잡한 세계를 좀더 단순하고 기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적인 원리를 통해 설명하고자 하는 사유방식으로 과학은 이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해 이론적 단순성을 유지하면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초자연적 대상들이나 원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바로 자연적이며 관찰할 수 있고 측정할 수 있는 대상이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리들로 환원시키면서 자연의 규칙성과 법칙성으로 설명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자 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러한 노력이 자연의 모든 것을 임의로 조작하고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제할 수 있는 대상으로 간주함으로써 자연과 인간 사이의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부조화는 물론이고 생태계의 오염이나 환경문제를 일으켰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비판을 받기도 한 과학철학을 무엇이라 하는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2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2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외래어는 호머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오디세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나오는 마녀의 이름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유래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아름다운 노래로 배를 유인해 사람을 잡아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었던 이 마녀의 이름이 지금은 경보 소리를 가리키는 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외래어로 쓰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러는 옥토에 떨어지는 작은 생명이고저…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흠도 티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금가지 않은 나의 전체는 오직 이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욱 값진 것으로 드리라 하울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의 가장 나아종 지닌 것도 오직 이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아름다운 나무의 꽃이 시듦을 보시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열매를 맺게 하신 당신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나의 웃음을 만드신 후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새로이 나의 이것을 지어 주시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시는 고 김현승 님의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기서 ‘옥토에 떨어지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작은 생명’이란 무엇을 상징하는 것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2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염상섭의 소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표본속의 이것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은 외부적인 탄압에 의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갇혀 있을 수 밖에 없는 인물을 통해 불안이나 초조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공포감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분위기를 묘사하여 일본의 침략주의를 비판한 작품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기서 억압적인 현실에 갇혀 있는 지식인을 상징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’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우리는 어떤 일이나 사건이 한 사람의 운명을 바꿔 놓는 것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종종 보게 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사람의 경우에는 은행돈을 못 갚은 죄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수감 생활을 하던 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 곳에서 얻은 체험을 토대로 단편 소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을 쓰면서 유명해졌습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마지막 잎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로 잘 알려진 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사람은 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d"/>
    <p:sndAc>
      <p:stSnd>
        <p:snd r:embed="rId2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alpt-04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본 사람들이 서양의 마차를 본떠서 만든 것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현진건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소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운수 좋은 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 주인공 김첨지도 이것을 끄는 사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커다란 바퀴위에 의자가 있고 그 위에 포장이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둘러씌워져 있는 것으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사람이 끌고 다닌다고 해서 붙여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whoosh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교시 국사시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낙동강’이라는 이름의 뜻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‘                     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의 동쪽 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2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씨 무신정권 시대 집권자인 ‘최우’가 강화도로 천도하면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육지의 백성들에게 내린 명령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역 조직을 갖추어 몽고에 대항하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②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기를 만들어 쌓아두어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③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알아서 산이나 섬으로 숨어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④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같이 강화도로 가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몽고에게 굴복하라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2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려 청자의 상감법은 그릇을 만든 후 바탕을 파내어 무늬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새기고 그 자리에 흰색과 붉은색의 흙을 채운 후 다시 구워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것이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렇게 구우면 흰색과 붉은색은 각각 어떤 색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변하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흰색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                                     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붉은색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"/>
    <p:sndAc>
      <p:stSnd>
        <p:snd r:embed="rId2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조선 시대 지역 특산물을 납부하는 ‘공납’이라는 세금에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역에서 생산되지 않는 물품이 부과될 경우 백성들이 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행동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른 지역에 가서 사다가 낸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②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관청에 호소해서 부과된 물품을 다른 것으로 바꾼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③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안낸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흔히 발간 후 몇 달 동안 집중적으로 팔리는 책을 베스트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셀러라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한편 나온지는 오래됐지만 꾸준히 잘 팔리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책을 이것이라고 부릅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것은 무엇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세기의 신분제의 통계에서 우리나라의 양반 인구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대략 몇 퍼센트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 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④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⑤ 7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3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u"/>
    <p:sndAc>
      <p:stSnd>
        <p:snd r:embed="rId2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19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음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일 충남 천안의 아우내 장터에서 유관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열사가 이끄는 군중들의 시위에서 함께 외친 구호는 무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었을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 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충청도 사람들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d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에 공통적으로 해당하는 단어는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김동인의 단편 소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회사에서 자본금의 감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흐의 작품명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것 먹는 사람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지과의 다년초 식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1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탈리아의 시인 단테가 쓴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신곡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서는 지옥을 벗어날 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더러운 것을 씻어 버리기 위해 이것으로 세수를 했다고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리나라에서도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월 초하룻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떡갈잎의 이것을 털어 눈을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씻으면 눈이 밝아진다고 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스 신화에서 새벽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여신 이오스의 ‘눈물’이라고 전해지는 이것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2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작품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인에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를 쓴 샤롯 브론테의 동생인 에밀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브론테의 대표작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출판 당시에는 비난을 받았지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오늘날에는 세익스피어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리어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멜빌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백경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필적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는 명작으로 평가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남자 주인공인 히스클리프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통해 격렬한 인간의 애증을 표사한 이 작품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3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어떤 사람의 특징을 이야기할 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명작 속에 등장하는 주인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빗대어 말하기도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과대망상인 사람을 돈키호테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바람둥이는 돈 주안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리고 찔러도 피 한 방울 나지 않을 냉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을 말할 때는 세익스피어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베니스의 상인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에 나오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에 비유하곤 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자유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 때 존 스튜어트 밀이 경도되었던 사상으로 행위의 기준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최대 다수의 최대 행복’ 즉 사회의 최대 다수 구성원의 최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한의 행복을 구하는 윤리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정치관은 무엇인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소수의  의견이 잘못된 의견이라고 확신하면서도 억압할 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는 이유가 어디에 있는지 밀의 생각을 빌려 이야기한다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론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장은 ‘개인은 절대로 다수자에게 복종할 필요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것이 자유이다’라고 말하고 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여기서 말하는 ‘그 자신에게만 관계되는 사항’ 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올바른 영역이란 무엇인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자유론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장에는 ‘개인에 대한 사회 권력의 국한에 관하여’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라는 내용이 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 중 남의 권리를 침해하지 않는다 하더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도 남에게 해를 끼친다든가 남의 행복에 대한 정당한 고려를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지 않는다면 세론에 의해 벌을 받아 마땅하다고 한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고 그에 있어서 이와 같은 원칙은 이기적 무관심을 주장하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것이 아니라 반대로 남의 이익을 촉진하기 위한 노력을 권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는 것이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러나 그 방법은 강제적이 아니라 어떠해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한다고 이야기하는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사람은 오스트리아의 신경과 의사로 정신분석학의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창시자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인간의 마음속에 본인이 의식하지 못하는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무의식이 존재한다고 믿어 자유연상법을 사용하여 히스테리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환자를 치료하고 이 치료법을 ‘정신분석’이라 명명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꿈의 해석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자아와 이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의 저서를 남긴 이 사람은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농업 기술과 상공업 발전을 통하여 생산력의 증대에 끊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없이 노력을 기울였던 조선시대 후기의 실학자입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허생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양반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호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등의 소설을 저술한 이 사람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49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옛 사람들은 귀신을 물리치기 위해 이 사람의 형상을 그려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문간에 붙였다고 합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삼국유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에 등장하는 이 인물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역신과 아내의 동침을 보고 노래와 춤을 춰 역신을 물리쳤다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전해집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 인물은 누구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840" y="378000"/>
            <a:ext cx="14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50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란 작품은 ‘칼날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우주여행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쏘공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클라인씨의 병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내 그물로 오는 가시고기’ 등 모두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의 작품이 한데 모여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대 말 가속화된 산업화의 희생자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도시 빈민층의 삶을 배경으로 하여 현대인의 삶의 문제를 비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적으로 그려낸 단편 소설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처럼 독립된 완결 구조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갖는 일군의 소설들이 일정한 내적 연관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즉 주제의 관련성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지니면서 연쇄적으로 묶여 있는 것을 무슨 소설이라 하나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러한 소설의 예로는 양귀자의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원미동 사람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문구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관촌 수필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등이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다음 설명 중 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‘이것’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의미하는 바가 무엇인지를 묻는 문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입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’이라는 작품은 난쟁이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대변되는 가난한 소외계층과 공장 노동자의 삶의 모습 그리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년대의 노동 환경을 폭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고발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제목이 상징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하는 바를 살펴보면 ‘난쟁이’는 가난하고 힘든 삶을 살아가는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약한 사람들’이나 ‘못 가진 자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가난한 자’를 의미합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’가 ‘작은 공을 쏘아 올린다’는 것은 ‘소박한 </a:t>
            </a:r>
            <a:r>
              <a:rPr b="1" lang="ko-KR" sz="2400" spc="-1" strike="noStrike" u="sng">
                <a:solidFill>
                  <a:srgbClr val="000000"/>
                </a:solidFill>
                <a:uFillTx/>
                <a:latin typeface="Arial"/>
              </a:rPr>
              <a:t>이것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을 실현하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위한 소외된 자들의 노력과 부르짓음’이라고 할 수 있는데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난쟁이가 쏘아올린 ‘작은 공’은 무엇을 상징할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6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난쟁이가 쏘아 올린 작은 공’이란 작품은 서술자를 다르게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설정하여 이야기를 전개하는 복합시점을 택하고 있습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 소설은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인칭 주인공 시점을 사용하고 있는데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1,2,3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부의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주인공이 각각 서술자로서 시점의 잦은 이동이 일어나고 있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니다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그렇다면 각 부의 서술자이면서 난쟁이의 자녀들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이들의 이름은 무엇일까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문제가 황당하나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힌트를 드리면 ‘영’자 돌림으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남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녀이지요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7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066680"/>
            <a:ext cx="8382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이번 문제는 정답이 문제 안에 들어 있으니 문제를 잘 듣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푸세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난쟁이가 쏘아 올린 작은 공’이란 작품에서 주인공들이 살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있는 곳의 주소는 결코 낙원이거나 행복한 곳이 아님에도 불구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하고 이러한 주소명을 붙였습니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현실의 고달픔과 어려움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더욱 잘 나타내기 위한 반어적이며 냉소적인 표현으로 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도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빈민들의 꿈을 그리면서도 그 꿈이 결코 이루어질 수 없음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뜻하는 것이라 할 수 있는데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그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난쟁이 일가가 사는 곳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구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동 일까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840" y="378000"/>
            <a:ext cx="12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</a:rPr>
              <a:t>문제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8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3:21:35Z</dcterms:created>
  <dc:creator>김구슬</dc:creator>
  <dc:description/>
  <dc:language>en-US</dc:language>
  <cp:lastModifiedBy>도서실</cp:lastModifiedBy>
  <dcterms:modified xsi:type="dcterms:W3CDTF">2003-11-21T23:43:45Z</dcterms:modified>
  <cp:revision>46</cp:revision>
  <dc:subject/>
  <dc:title>슬라이드 제목 없음</dc:title>
</cp:coreProperties>
</file>